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1241-D7FA-4E33-AA11-C02CCDF5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6B81-D68A-47E1-BE6D-2ED920BB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870B-6DD0-4CE5-94EB-3A9D28ED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FBAA-EB03-4F37-A3E6-9B399195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B3D2-F695-496D-8605-6B19E114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6B63-3081-40B9-B090-C9ED38C7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EDF5-3264-4BA7-A889-8F9587C0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718D-273B-40BF-8EE7-600F69DB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7064-A354-4E25-AFDA-D3B4B390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0122-6FF0-4766-9961-9E5C50CB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B391-D8F7-4FDC-B35A-C93E3E3B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9844-02A8-4D6A-B540-F5369AEF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07C6-0475-4207-80AD-865B7E68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780C-B698-4D6C-890F-9023D310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E5A3-4318-43E3-8071-063A7349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66A2-AD29-40D5-B97F-5EB81173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A80F-1A7E-4B2E-9E5B-565D1815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DE38-720F-47E4-AA3A-A612976F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6D36-91E3-4C6D-A2E1-A0E0028D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2469-146B-4969-AD52-080FA07C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8A74-38B6-427D-BABF-496A878B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7280-0B83-42EC-9B05-6CCE04AB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4B30-7407-476F-A316-50BA0EAC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3F68-6983-4D9E-8E77-CA668E5B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A4DC-6014-423B-8161-A5DFE9A794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209D-E3D4-43DB-8CC9-033019DE7A5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errar el trat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3765240"/>
            <a:ext cx="8001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os para cerrar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to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ga el 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erre el trato con 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Sintonice la radio en QHPM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é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y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la emisora favorita, y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que su cliente escu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érdeles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ábleles sólo acerca de cómo les va a ayudar este tr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Exponga el trat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idad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ha presentado una posible solución a su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se ha ganado el derecho a pedirles que compren la solución recomendada... ¡Pues pídase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Deje de ven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han pedido que se lo facilite, ¡y ya lo ha he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nto más hable, más pensarán que no está satisfecho con la solución ofre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hablar y permítales que deci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ierre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los clientes creen que usted tiene confianza en su solución, ellos también la tend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za es producto de la prepa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la presentación final y prepare respuestas para posibles obje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45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